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9684B-A3E9-4EDB-8303-62B8DDFD13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9DEAD-AAD5-47A5-8C23-F7DF8297E6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483E-D959-4778-AF57-3D1470089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0F97-505E-46C9-AE85-0297CC550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E1E3-F83A-4207-8720-5BACDCDE2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0E7E-58EF-45F5-85D6-FD82DD356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83ED-143A-4980-9F93-F952B158F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F726-870F-47F9-9058-A9468CCFD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5037-D76C-49F3-881E-433CA7AA2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5D10-6C3B-40C6-BA50-C8B52BFC9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61C7-F28F-48B6-B1E1-FC8B3A156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EE0F-9712-453D-B826-7147B0051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C594-83D3-4514-9535-C428AD454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D3B5-DF80-487B-867F-998B240BC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4C4AC-92C3-4BC7-B184-FFFF2A4B3A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lyssa Ed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Alyssa Edmond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Alyssa Edmond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Alyssa Edmon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omo estas tu m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75284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 ,y Buenos dias, Mi nombre es Alyssa. Yo vivo en New York. Yo tengo catorce años. Yo tengo una hermanas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449280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572000"/>
            <a:ext cx="536760" cy="78120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55948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572000"/>
            <a:ext cx="439560" cy="62856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Perdon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Mi mama es muy cansada ahora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Bein, por que?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Ella esta be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388620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4T14:57:58Z</dcterms:modified>
  <cp:revision>106</cp:revision>
  <dc:subject/>
  <dc:title>Profile</dc:title>
</cp:coreProperties>
</file>